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BB3CA-EA70-4B18-800F-28DA5D865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42C6-FCC5-4460-8B89-BC0C7282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C7C52-B7B4-4EB3-96AD-ABDE1FB87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C3344-B8FF-454F-9195-8476D63D2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82A33-A451-4A13-9289-27B77626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0BAA-6891-4ADA-B8D5-758B5EAA0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DDD77-84AC-4D75-B801-8C6BF14E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10EA-83C9-41FB-B760-745E9D900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AD71-D3A0-4202-8605-490E620D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EB64-EF70-4FAD-8638-4613E052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A3FC-F97D-4040-9703-3D649745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C2D9-F925-4B06-AD4D-9C8A2F3E3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E380-1496-4AD1-A83B-65FD0C6C9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cprosportsreport.com/wp-content/uploads/2010/09/Live-Microphone.jpg" TargetMode="External"/><Relationship Id="rId2" Type="http://schemas.openxmlformats.org/officeDocument/2006/relationships/hyperlink" Target="http://thatgrapejuice.net/wp-content/uploads/2010/06/drake1.jpg" TargetMode="External"/><Relationship Id="rId3" Type="http://schemas.openxmlformats.org/officeDocument/2006/relationships/hyperlink" Target="http://www.hiphopdx.com/index/news/id.11194/title.drake-talks-influences-rap-stereotypes-and-more-with-cnn" TargetMode="External"/><Relationship Id="rId4" Type="http://schemas.openxmlformats.org/officeDocument/2006/relationships/hyperlink" Target="http://www.sohh.com/2010/07/drake_reveals_his_top_5_influential_arti.html" TargetMode="External"/><Relationship Id="rId5" Type="http://schemas.openxmlformats.org/officeDocument/2006/relationships/hyperlink" Target="http://imstars.aufeminin.com/stars/fan/p-diddy/p-diddy-20040406-210.jpg" TargetMode="External"/><Relationship Id="rId6" Type="http://schemas.openxmlformats.org/officeDocument/2006/relationships/hyperlink" Target="http://thinkexist.com/quotes/p._diddy,_puff_daddy/" TargetMode="External"/><Relationship Id="rId7" Type="http://schemas.openxmlformats.org/officeDocument/2006/relationships/hyperlink" Target="http://www.bandbiographies.com/p_diddy/biography.htm"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live.drjays.com/wp-content/uploads/2009/08/jay-z.jpg" TargetMode="External"/><Relationship Id="rId2" Type="http://schemas.openxmlformats.org/officeDocument/2006/relationships/hyperlink" Target="http://www.starpulse.com/Music/Jay-Z/Biography/" TargetMode="External"/><Relationship Id="rId3" Type="http://schemas.openxmlformats.org/officeDocument/2006/relationships/hyperlink" Target="https://pleasedontstare.wordpress.com/2008/09/21/jay-z-quotes-to-live-by-2/" TargetMode="External"/><Relationship Id="rId4" Type="http://schemas.openxmlformats.org/officeDocument/2006/relationships/hyperlink" Target="http://www.shadowandact.com/wp-content/uploads/2009/10/mary-j-blige.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9880"/>
            <a:ext cx="58672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ve Degrees of Sepa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380880" y="5562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ianna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 Diddy made hits for…</a:t>
            </a:r>
            <a:endParaRPr b="0" lang="en-US" sz="4400" spc="-1" strike="noStrike">
              <a:solidFill>
                <a:srgbClr val="000000"/>
              </a:solidFill>
              <a:latin typeface="Arial"/>
            </a:endParaRPr>
          </a:p>
        </p:txBody>
      </p:sp>
      <p:sp>
        <p:nvSpPr>
          <p:cNvPr id="65" name="PlaceHolder 2"/>
          <p:cNvSpPr>
            <a:spLocks noGrp="1"/>
          </p:cNvSpPr>
          <p:nvPr>
            <p:ph/>
          </p:nvPr>
        </p:nvSpPr>
        <p:spPr>
          <a:xfrm>
            <a:off x="456840" y="1599840"/>
            <a:ext cx="3886200" cy="487692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hristopher Wallace a.k.a Notorious B.I.G.:</a:t>
            </a:r>
            <a:endParaRPr b="0" lang="en-US" sz="3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read magazines and you see everybody having fun, you think, ‘okay, that’s where I want to be.’ But once you get in it and you achieve the sucess that you want, it seems like that’s where the player hating starts. You know that’s where everybody’s like, ‘Well it’s not all th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5" descr="notorious"/>
          <p:cNvPicPr/>
          <p:nvPr/>
        </p:nvPicPr>
        <p:blipFill>
          <a:blip r:embed="rId1"/>
          <a:stretch/>
        </p:blipFill>
        <p:spPr>
          <a:xfrm>
            <a:off x="4495680" y="1523880"/>
            <a:ext cx="4267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Biggi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orious B.I.G. was raised in Brooklyn, New York C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ing was only a hobby when he was discover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tape Sean "Puffy" Combs who was working at Uptown Record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debut single was "Party and Bulls***." The album features "Big Poppa," one of rap’s most famous “playa anthem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ace met Tupac Shakur. They recorded a number of songs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rch 9, 1997, Biggie was shot and killed in Los Ange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phone. D.C. Pro Sports Report. November 18, 2010. </a:t>
            </a:r>
            <a:r>
              <a:rPr b="0" lang="en-US" sz="1800" spc="-1" strike="noStrike" u="sng">
                <a:solidFill>
                  <a:srgbClr val="009999"/>
                </a:solidFill>
                <a:uFillTx/>
                <a:latin typeface="Arial"/>
                <a:hlinkClick r:id="rId1"/>
              </a:rPr>
              <a:t>http://dcprosportsreport.com/wp-content/uploads/2010/09/Live-Microphone.jp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ke Photograph. Grape Juice. November 18, 2010. </a:t>
            </a:r>
            <a:r>
              <a:rPr b="0" lang="en-US" sz="1800" spc="-1" strike="noStrike" u="sng">
                <a:solidFill>
                  <a:srgbClr val="009999"/>
                </a:solidFill>
                <a:uFillTx/>
                <a:latin typeface="Arial"/>
                <a:hlinkClick r:id="rId2"/>
              </a:rPr>
              <a:t>http://thatgrapejuice.net/wp-content/uploads/2010/06/drake1.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le Harling. Drake Talkes Influences, Rap Stereotypes, and More with CNN. cnn.com. Nov 9, 2010. </a:t>
            </a:r>
            <a:r>
              <a:rPr b="0" lang="en-US" sz="1800" spc="-1" strike="noStrike" u="sng">
                <a:solidFill>
                  <a:srgbClr val="009999"/>
                </a:solidFill>
                <a:uFillTx/>
                <a:latin typeface="Arial"/>
                <a:hlinkClick r:id="rId3"/>
              </a:rPr>
              <a:t>http://www.hiphopdx.com/index/news/id.11194/title.drake-talks-influences-rap-stereotypes-and-more-with-cn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z Jones. Drake Reveals his top Five Influences. sohh.com. Nov 9,2010. </a:t>
            </a:r>
            <a:r>
              <a:rPr b="0" lang="en-US" sz="1800" spc="-1" strike="noStrike" u="sng">
                <a:solidFill>
                  <a:srgbClr val="009999"/>
                </a:solidFill>
                <a:uFillTx/>
                <a:latin typeface="Arial"/>
                <a:hlinkClick r:id="rId4"/>
              </a:rPr>
              <a:t>http://www.sohh.com/2010/07/drake_reveals_his_top_5_influential_arti.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Diddy. IM Stars. November 18, 2010. </a:t>
            </a:r>
            <a:r>
              <a:rPr b="0" lang="en-US" sz="1800" spc="-1" strike="noStrike" u="sng">
                <a:solidFill>
                  <a:srgbClr val="009999"/>
                </a:solidFill>
                <a:uFillTx/>
                <a:latin typeface="Arial"/>
                <a:hlinkClick r:id="rId5"/>
              </a:rPr>
              <a:t>http://imstars.aufeminin.com/stars/fan/p-diddy/p-diddy-20040406-210.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dy Quotes. Think Exist. November 16, 2010. </a:t>
            </a:r>
            <a:r>
              <a:rPr b="0" lang="en-US" sz="1800" spc="-1" strike="noStrike" u="sng">
                <a:solidFill>
                  <a:srgbClr val="009999"/>
                </a:solidFill>
                <a:uFillTx/>
                <a:latin typeface="Arial"/>
                <a:hlinkClick r:id="rId6"/>
              </a:rPr>
              <a:t>http://thinkexist.com/quotes/p._diddy,_puff_dadd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Diddy Biography. Band Biographies. November 16, 2010. </a:t>
            </a:r>
            <a:r>
              <a:rPr b="0" lang="en-US" sz="1800" spc="-1" strike="noStrike" u="sng">
                <a:solidFill>
                  <a:srgbClr val="009999"/>
                </a:solidFill>
                <a:uFillTx/>
                <a:latin typeface="Arial"/>
                <a:hlinkClick r:id="rId7"/>
              </a:rPr>
              <a:t>http://www.bandbiographies.com/p_diddy/biography.h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Ct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 Z. Dr. Jay’s. November 18, 2010. </a:t>
            </a:r>
            <a:r>
              <a:rPr b="0" lang="en-US" sz="1600" spc="-1" strike="noStrike" u="sng">
                <a:solidFill>
                  <a:srgbClr val="009999"/>
                </a:solidFill>
                <a:uFillTx/>
                <a:latin typeface="Arial"/>
                <a:hlinkClick r:id="rId1"/>
              </a:rPr>
              <a:t>http://live.drjays.com/wp-content/uploads/2009/08/jay-z.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Z Biography. Starpulse. November 12, 2010. </a:t>
            </a:r>
            <a:r>
              <a:rPr b="0" lang="en-US" sz="1600" spc="-1" strike="noStrike" u="sng">
                <a:solidFill>
                  <a:srgbClr val="009999"/>
                </a:solidFill>
                <a:uFillTx/>
                <a:latin typeface="Arial"/>
                <a:hlinkClick r:id="rId2"/>
              </a:rPr>
              <a:t>http://www.starpulse.com/Music/Jay-Z/Biograph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Z quotes to live by. Please don't stare. November 12, 2010. </a:t>
            </a:r>
            <a:r>
              <a:rPr b="0" lang="en-US" sz="1600" spc="-1" strike="noStrike" u="sng">
                <a:solidFill>
                  <a:srgbClr val="009999"/>
                </a:solidFill>
                <a:uFillTx/>
                <a:latin typeface="Arial"/>
                <a:hlinkClick r:id="rId3"/>
              </a:rPr>
              <a:t>https://pleasedontstare.wordpress.com/2008/09/21/jay-z-quotes-to-live-by-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Shadow and Act. November 18, 2010. </a:t>
            </a:r>
            <a:r>
              <a:rPr b="0" lang="en-US" sz="1600" spc="-1" strike="noStrike" u="sng">
                <a:solidFill>
                  <a:srgbClr val="009999"/>
                </a:solidFill>
                <a:uFillTx/>
                <a:latin typeface="Arial"/>
                <a:hlinkClick r:id="rId4"/>
              </a:rPr>
              <a:t>http://www.shadowandact.com/wp-content/uploads/2009/10/mary-j-blige.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Full Biography. MTV. November 16, 2010. http://www.mtv.com/music/artist/blige_mary_j/artist.jhtml#biographyE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Quotes. Think Exist. November 16, 2010. http://thinkexist.com/quotes/mary_j._blig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 G. Hunt. November 18, 2010. http://hunt.fm/images/featured/notorious.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G quotes. West Lord. November 16, 2010. http://www.westlord.com/notorious-big-quot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G Biography. West Lord. November 16, 2010. http://www.westlord.com/notorious-big-biograph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ke</a:t>
            </a:r>
            <a:endParaRPr b="0" lang="en-US" sz="4400" spc="-1" strike="noStrike">
              <a:solidFill>
                <a:srgbClr val="000000"/>
              </a:solidFill>
              <a:latin typeface="Arial"/>
            </a:endParaRPr>
          </a:p>
        </p:txBody>
      </p:sp>
      <p:sp>
        <p:nvSpPr>
          <p:cNvPr id="44" name="PlaceHolder 2"/>
          <p:cNvSpPr>
            <a:spLocks noGrp="1"/>
          </p:cNvSpPr>
          <p:nvPr>
            <p:ph/>
          </p:nvPr>
        </p:nvSpPr>
        <p:spPr>
          <a:xfrm>
            <a:off x="-360" y="1447560"/>
            <a:ext cx="441972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art of the whole appeal of me as an artist is I did have things that were initially seen as strikes against me. Like being from Canada, being an actor, being light-skinned, being Jewish. It’s all these things that I guess in the stereotypical rap world don’t really fit the pack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5" descr="drake1"/>
          <p:cNvPicPr/>
          <p:nvPr/>
        </p:nvPicPr>
        <p:blipFill>
          <a:blip r:embed="rId1"/>
          <a:stretch/>
        </p:blipFill>
        <p:spPr>
          <a:xfrm>
            <a:off x="4495680" y="1897200"/>
            <a:ext cx="4191120" cy="34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Drak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October 24, 1986 in Toron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claim to fame is the song "Best I Ever Ha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mom and dad got divorced when he was f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started out as an actor on the show Degrass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came Lil Wayne's protégé.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he became part of Young Money, a label run by Lil Way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ke now writes about his life after becoming famous, relationships, and hat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ke was influenced b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114800" cy="49528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ay Z:</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will not lose for even in defeat, there’s a valuable lesson learned so it evens up for me.”</a:t>
            </a:r>
            <a:endParaRPr b="0" lang="en-US" sz="3200" spc="-1" strike="noStrike">
              <a:solidFill>
                <a:srgbClr val="000000"/>
              </a:solidFill>
              <a:latin typeface="Arial"/>
            </a:endParaRPr>
          </a:p>
        </p:txBody>
      </p:sp>
      <p:pic>
        <p:nvPicPr>
          <p:cNvPr id="50" name="Picture 5" descr="jay-z"/>
          <p:cNvPicPr/>
          <p:nvPr/>
        </p:nvPicPr>
        <p:blipFill>
          <a:blip r:embed="rId1"/>
          <a:stretch/>
        </p:blipFill>
        <p:spPr>
          <a:xfrm>
            <a:off x="4800600" y="1905120"/>
            <a:ext cx="3838680" cy="37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Jay Z?</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y Z was born December 4, 1970 in Brooklyn, 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ther left him and his mother before he was a teenag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ent to the streets and made a name for himself as a rapp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ade his own company, Roc-A-Fella Recor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debut album was "Reasonable Doubt" On this album, he worked with many famous artists such as Notorious B.I.G. and Mary J. Bli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y Z worked with…</a:t>
            </a:r>
            <a:endParaRPr b="0" lang="en-US" sz="4400" spc="-1" strike="noStrike">
              <a:solidFill>
                <a:srgbClr val="000000"/>
              </a:solidFill>
              <a:latin typeface="Arial"/>
            </a:endParaRPr>
          </a:p>
        </p:txBody>
      </p:sp>
      <p:sp>
        <p:nvSpPr>
          <p:cNvPr id="54" name="PlaceHolder 2"/>
          <p:cNvSpPr>
            <a:spLocks noGrp="1"/>
          </p:cNvSpPr>
          <p:nvPr>
            <p:ph/>
          </p:nvPr>
        </p:nvSpPr>
        <p:spPr>
          <a:xfrm>
            <a:off x="456840" y="1599840"/>
            <a:ext cx="3962520" cy="47242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ary J. Blidg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Rectangle 4"/>
          <p:cNvSpPr/>
          <p:nvPr/>
        </p:nvSpPr>
        <p:spPr>
          <a:xfrm>
            <a:off x="380880" y="2438280"/>
            <a:ext cx="38721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ll translates; at the end of the day, we've all been picked on for some reason or another. We all get bashed, we all get hurt. Different races get picked on every day. Regular hard-working people just trying to provide get picked on, as do gay people. The important thing is to realize that no matter what people's opinions may be, they're only just that - people's opinions. You have to believe in your heart what you know to be true about yourself. And let that be that.”</a:t>
            </a:r>
            <a:endParaRPr b="0" lang="en-US" sz="1800" spc="-1" strike="noStrike">
              <a:solidFill>
                <a:srgbClr val="000000"/>
              </a:solidFill>
              <a:latin typeface="Arial"/>
            </a:endParaRPr>
          </a:p>
        </p:txBody>
      </p:sp>
      <p:pic>
        <p:nvPicPr>
          <p:cNvPr id="56" name="Picture 6" descr="mary-j-blige"/>
          <p:cNvPicPr/>
          <p:nvPr/>
        </p:nvPicPr>
        <p:blipFill>
          <a:blip r:embed="rId1"/>
          <a:stretch/>
        </p:blipFill>
        <p:spPr>
          <a:xfrm>
            <a:off x="4724280" y="20574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MJB?</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J. Blidge was born in the Bronx on January 11, 197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had a rough life which led to her dropping out of high school as a juni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dge recorded herself singing "Caught Up in the Rapture" by Anita Baker and her stepfather passed this to the Uptown Records CE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 "Puffy" Combs took her under his w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debut album was "What's the 41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music is focused around things that happened in her life and certain experiences she had during her younger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y J. Blidge worked with…</a:t>
            </a:r>
            <a:endParaRPr b="0" lang="en-US" sz="4400" spc="-1" strike="noStrike">
              <a:solidFill>
                <a:srgbClr val="000000"/>
              </a:solidFill>
              <a:latin typeface="Arial"/>
            </a:endParaRPr>
          </a:p>
        </p:txBody>
      </p:sp>
      <p:sp>
        <p:nvSpPr>
          <p:cNvPr id="60" name="PlaceHolder 2"/>
          <p:cNvSpPr>
            <a:spLocks noGrp="1"/>
          </p:cNvSpPr>
          <p:nvPr>
            <p:ph/>
          </p:nvPr>
        </p:nvSpPr>
        <p:spPr>
          <a:xfrm>
            <a:off x="457200" y="2209680"/>
            <a:ext cx="4191120" cy="46483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ean “P. Diddy” Combs:</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s okay to be crazy, but don't be insane.”</a:t>
            </a:r>
            <a:endParaRPr b="0" lang="en-US" sz="3200" spc="-1" strike="noStrike">
              <a:solidFill>
                <a:srgbClr val="000000"/>
              </a:solidFill>
              <a:latin typeface="Arial"/>
            </a:endParaRPr>
          </a:p>
        </p:txBody>
      </p:sp>
      <p:pic>
        <p:nvPicPr>
          <p:cNvPr id="61" name="Picture 5" descr="p-diddy-20040406-210"/>
          <p:cNvPicPr/>
          <p:nvPr/>
        </p:nvPicPr>
        <p:blipFill>
          <a:blip r:embed="rId1"/>
          <a:stretch/>
        </p:blipFill>
        <p:spPr>
          <a:xfrm>
            <a:off x="4724280" y="1752480"/>
            <a:ext cx="406404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Puff Dadd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Diddy was born in Harlem in 197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ent to Howard University  and majored in business administr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rted his own record company called Bad Boy Entertai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Biggie Smalls died in 1997, P. Diddy recorded his debut single "I'll Be Missing Yo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w is more of a producer and works with many up and coming artis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3:47:38Z</dcterms:created>
  <dc:creator>brrock8</dc:creator>
  <dc:description/>
  <dc:language>en-US</dc:language>
  <cp:lastModifiedBy>brrock8</cp:lastModifiedBy>
  <dcterms:modified xsi:type="dcterms:W3CDTF">2010-11-22T13:41:15Z</dcterms:modified>
  <cp:revision>6</cp:revision>
  <dc:subject/>
  <dc:title>Five Degrees of Separation</dc:title>
</cp:coreProperties>
</file>